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3427-75EC-418A-A656-750C128EA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CA3B-F3AC-4448-8B74-2E1809CAD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6DC0-FD89-4265-9981-8A0A0D61E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7BC8-144C-4F27-8720-AC87B7395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BCC7-D7A8-4BEE-A1E6-54E480970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B5E2-60B8-4C06-86BF-4DA4D9C4D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6271-831E-4DBC-A895-C1548186C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11B9-A9F6-4B80-8F05-9C73378C7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76D4-2E8F-41B9-ABD1-B8D5C9ED8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D12E-9BE2-41C0-8F70-28CE4B598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386E-E00E-4A73-90FD-96665D79E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1B8F-26E7-476C-A594-7409DF4EE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DC008-9858-49A7-B900-0EA0351F35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3b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14440" y="2840040"/>
            <a:ext cx="5829120" cy="19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ge Construc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28520" y="5181120"/>
            <a:ext cx="4800600" cy="23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 rot="21105000">
            <a:off x="1294920" y="4647960"/>
            <a:ext cx="46483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Tw Cen MT"/>
              </a:rPr>
              <a:t>Stage Construction keeps things interesting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Tw Cen MT"/>
              <a:ea typeface="Tw Cen MT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-533520" y="6324480"/>
            <a:ext cx="715356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Stage construction: built to perfect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5" name=""/>
          <p:cNvSpPr txBox="1"/>
          <p:nvPr/>
        </p:nvSpPr>
        <p:spPr>
          <a:xfrm rot="1621800">
            <a:off x="-228600" y="1905120"/>
            <a:ext cx="7453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ff">
                        <a:alpha val="50196"/>
                      </a:srgbClr>
                    </a:gs>
                    <a:gs pos="100000">
                      <a:srgbClr val="0acff6"/>
                    </a:gs>
                  </a:gsLst>
                  <a:lin ang="5400000"/>
                </a:gradFill>
                <a:latin typeface="Times New Roman"/>
              </a:rPr>
              <a:t>Stage construction: for people who want mor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ff">
                      <a:alpha val="50196"/>
                    </a:srgbClr>
                  </a:gs>
                  <a:gs pos="100000">
                    <a:srgbClr val="0acff6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1T19:39:37Z</dcterms:created>
  <dc:creator> </dc:creator>
  <dc:description/>
  <dc:language>en-US</dc:language>
  <cp:lastModifiedBy> </cp:lastModifiedBy>
  <dcterms:modified xsi:type="dcterms:W3CDTF">2009-09-21T20:00:48Z</dcterms:modified>
  <cp:revision>2</cp:revision>
  <dc:subject/>
  <dc:title>Stage Construction </dc:title>
</cp:coreProperties>
</file>